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6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69880" y="6567480"/>
            <a:ext cx="873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naging TSP Teams - Module 1 - </a:t>
            </a:r>
            <a:fld id="{E65DD83B-1AA8-4AC7-87E1-5B96D9F61895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6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68080" y="6567480"/>
            <a:ext cx="873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naging TSP Teams - Module 1 - </a:t>
            </a:r>
            <a:fld id="{F20F556F-06F6-4A39-8B2D-76D1D16A448F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966960" y="1893960"/>
            <a:ext cx="77515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Managing TSP Teams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Exercise 2: Using Data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Instruc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17720" y="1704600"/>
            <a:ext cx="741024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stimate Student 14’s development time for program 5A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tal estimated time = (Estimated size)/(historical LOC/hour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stimate the total defects Student 14 will likely injec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 startAt="2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s injected = (5A estimated size)*(Defects to date)/(Size to date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stimate how long Student 14 will spend in tes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 startAt="3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ime in test = (Total estimated time)*(% time in test)/1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Exercis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ad the exercise instruc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 into groups of two to four to answer the ques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done, we will discuss the questions as a grou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3376440" y="5025960"/>
            <a:ext cx="2363400" cy="879480"/>
            <a:chOff x="3376440" y="5025960"/>
            <a:chExt cx="2363400" cy="879480"/>
          </a:xfrm>
        </p:grpSpPr>
        <p:sp>
          <p:nvSpPr>
            <p:cNvPr id="136" name="Rectangle 5"/>
            <p:cNvSpPr/>
            <p:nvPr/>
          </p:nvSpPr>
          <p:spPr>
            <a:xfrm>
              <a:off x="3852000" y="5338800"/>
              <a:ext cx="18878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39536b"/>
                </a:buClr>
                <a:buFont typeface="Arial"/>
                <a:buChar char=" "/>
                <a:tabLst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2400" spc="-1" strike="noStrike">
                  <a:solidFill>
                    <a:srgbClr val="39536b"/>
                  </a:solidFill>
                  <a:latin typeface="Arial"/>
                </a:rPr>
                <a:t>20 minutes</a:t>
              </a:r>
              <a:endParaRPr b="0" lang="en-US" sz="2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137" name="Picture 6" descr=""/>
            <p:cNvPicPr/>
            <p:nvPr/>
          </p:nvPicPr>
          <p:blipFill>
            <a:blip r:embed="rId1"/>
            <a:stretch/>
          </p:blipFill>
          <p:spPr>
            <a:xfrm>
              <a:off x="3376440" y="5025960"/>
              <a:ext cx="649440" cy="87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Discuss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17720" y="1704600"/>
            <a:ext cx="741024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id you estimate for program 5A development tim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any defects did you estimate Student 14 will inject while writing program 5A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long will Student 14 likely spend in unit tes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do your estimates compare with the actual results and what could have caused the differenc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ould be the likely consequences of inaccurate or incomplete data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5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bjectiv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720" y="17222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monstrates the value of PSP data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llustrates ways to use these data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ws the value of having complete and accurate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first describe the data gathered by a software developer and describe how these data can be us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then provide some developer data and ask you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the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data to answer some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Data Gather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720" y="17222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support tool provides an easy way for team members to record their time, size, defect, and task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are the same data they learn to gather and use with the 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is tool, they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rd when they start and stop each tas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g each defect when found and fix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the size of each product when it is buil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rd the date when each task is comple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king PSP and TSP Plan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720" y="17222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historical data, develop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size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otal development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read this time over the project pha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total defects injec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read the defect estimates over the project pha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stimating process works because developer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at a fairly consistent LOC/hour r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end roughly the same amount of time in each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ject about the same number of defects/KLO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Form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720" y="17222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ree TSP forms summarize all of a team’s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EEK form shows the team’s schedule performance for every project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UMQ (quality summary) form summarizes the quality data for each system, product, and product compon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UMP (plan summary) form holds the time, size, and defect data for each system, product, and product compon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only uses the data on the SUMP form.  Exercises 3 and 4 use the WEEK and SUMQ for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SUMP Form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00360" y="1538280"/>
            <a:ext cx="4913280" cy="5097600"/>
          </a:xfrm>
          <a:prstGeom prst="rect">
            <a:avLst/>
          </a:prstGeom>
          <a:ln w="0">
            <a:noFill/>
          </a:ln>
        </p:spPr>
      </p:pic>
      <p:sp>
        <p:nvSpPr>
          <p:cNvPr id="107" name="Oval 4"/>
          <p:cNvSpPr/>
          <p:nvPr/>
        </p:nvSpPr>
        <p:spPr>
          <a:xfrm>
            <a:off x="4541760" y="1538280"/>
            <a:ext cx="1714680" cy="59688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85800" y="1708200"/>
            <a:ext cx="2743200" cy="34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Project dat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3514680" y="1793880"/>
            <a:ext cx="941400" cy="171360"/>
          </a:xfrm>
          <a:prstGeom prst="rightArrow">
            <a:avLst>
              <a:gd name="adj1" fmla="val 50000"/>
              <a:gd name="adj2" fmla="val 137342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Oval 7"/>
          <p:cNvSpPr/>
          <p:nvPr/>
        </p:nvSpPr>
        <p:spPr>
          <a:xfrm>
            <a:off x="4884840" y="2220840"/>
            <a:ext cx="1285920" cy="153828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85800" y="2819520"/>
            <a:ext cx="2743200" cy="346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Size dat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3514680" y="2905200"/>
            <a:ext cx="941400" cy="169920"/>
          </a:xfrm>
          <a:prstGeom prst="rightArrow">
            <a:avLst>
              <a:gd name="adj1" fmla="val 50000"/>
              <a:gd name="adj2" fmla="val 138506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3" name="Oval 10"/>
          <p:cNvSpPr/>
          <p:nvPr/>
        </p:nvSpPr>
        <p:spPr>
          <a:xfrm>
            <a:off x="4970520" y="3844800"/>
            <a:ext cx="1285920" cy="247824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685800" y="4870440"/>
            <a:ext cx="2752560" cy="346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Time dat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3514680" y="4954680"/>
            <a:ext cx="941400" cy="171360"/>
          </a:xfrm>
          <a:prstGeom prst="rightArrow">
            <a:avLst>
              <a:gd name="adj1" fmla="val 50000"/>
              <a:gd name="adj2" fmla="val 137342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5999040" y="426960"/>
            <a:ext cx="2743200" cy="5900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ata used in the exerci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SUMP Form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713120" y="1538280"/>
            <a:ext cx="3084840" cy="4935600"/>
          </a:xfrm>
          <a:prstGeom prst="rect">
            <a:avLst/>
          </a:prstGeom>
          <a:ln w="0">
            <a:noFill/>
          </a:ln>
        </p:spPr>
      </p:pic>
      <p:sp>
        <p:nvSpPr>
          <p:cNvPr id="119" name="Oval 5"/>
          <p:cNvSpPr/>
          <p:nvPr/>
        </p:nvSpPr>
        <p:spPr>
          <a:xfrm>
            <a:off x="5827680" y="1538280"/>
            <a:ext cx="1714680" cy="196524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4284720" y="2478240"/>
            <a:ext cx="1371600" cy="169560"/>
          </a:xfrm>
          <a:prstGeom prst="rightArrow">
            <a:avLst>
              <a:gd name="adj1" fmla="val 50000"/>
              <a:gd name="adj2" fmla="val 202229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371600" y="4443480"/>
            <a:ext cx="2486160" cy="346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efects removed dat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5827680" y="3673440"/>
            <a:ext cx="1714680" cy="196524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4284720" y="4613400"/>
            <a:ext cx="1371600" cy="171360"/>
          </a:xfrm>
          <a:prstGeom prst="rightArrow">
            <a:avLst>
              <a:gd name="adj1" fmla="val 50000"/>
              <a:gd name="adj2" fmla="val 200105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371600" y="5894280"/>
            <a:ext cx="2486160" cy="346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Summary informat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4370400" y="5979960"/>
            <a:ext cx="1371600" cy="171720"/>
          </a:xfrm>
          <a:prstGeom prst="rightArrow">
            <a:avLst>
              <a:gd name="adj1" fmla="val 50000"/>
              <a:gd name="adj2" fmla="val 199686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5742000" y="5810400"/>
            <a:ext cx="1714320" cy="51264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999040" y="426960"/>
            <a:ext cx="2743200" cy="5900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ata used in the exerci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1371600" y="2468520"/>
            <a:ext cx="2486160" cy="346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efects injected dat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17720" y="1704600"/>
            <a:ext cx="741024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14 has complete writing 4 of the PSP course programs and is planning program 5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are given a SUMP form with the data for Student 14’s first four progr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SUMP form shows the actual time, size, and defect data for programs 1 through 4 and the distribution of these  data among the development pha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are also given Student 14’s size estimate for program 5A (112 LOC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e exercise, you use these data to produce part of the estimate for program 5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44:26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6:17Z</dcterms:modified>
  <cp:revision>27</cp:revision>
  <dc:subject>24 July 2001 / 3:30pm</dc:subject>
  <dc:title>PowerPoint Presentation</dc:title>
</cp:coreProperties>
</file>